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F53-36C1-4DB7-BBB2-04958EF6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A042-47C0-44CF-B0A5-000F1079E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3D0-72BB-4CA8-817C-2D6E4097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44A-8E0B-4AE2-8AA1-9B87B198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278-7880-44BA-A615-9D2EEEB9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975B-2327-4129-9FBF-41EFB28C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C727-7D8F-43BD-B0A2-E0D99143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AE1-6E79-45B8-B9C8-E98DD4657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EB36-6862-4380-A87A-AEEF57FB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687-8678-44AD-BE2C-2B0F784E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EFE-EDFB-4373-8C2E-C5C9A509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BB6-B2BC-4BA2-963C-54ED9556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5A5-1346-4BDF-A77A-122E2B3D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BE0-83CE-4CA5-BF6F-CB0219BF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C0C-798E-47AB-AFA2-668885A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9652-B3D4-43F9-A0B2-DC3D84A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DB0D-8E8C-4DE3-9367-F938FB9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2B6-B767-402B-B4EA-DAFDAC3A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81E4-CF17-4EF0-996B-D92B039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9982-B25B-4D18-B328-5D0B664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D2D-71CA-4C90-A205-23EE208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0F31-EC98-4034-805D-4D80FD12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15BD-55D6-4561-86A9-9B19775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F53-AB93-4D81-AB4F-CA00F92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61AF-6777-4677-8444-552DD9E7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1B1-B3F7-4AC2-9E98-EBC5F64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7CF-788C-4746-ACA5-545BEB95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BF8-D129-4B1A-A93F-ED92B144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454-EB91-4118-8950-AB0A2E2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388-3F7A-4D51-BCE6-AA4F679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8DB-2877-4C4F-8DE9-1BA890A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1B6-5B05-4BFC-96D9-6D018FC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470-9904-4DFC-B3CA-7076236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9FA-FBCE-4455-A0E6-2ED6DAE17D7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52B-C236-4EDB-A9BA-A30F88B0C68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dvanced-training.org.uk/" TargetMode="External"/><Relationship Id="rId2" Type="http://schemas.openxmlformats.org/officeDocument/2006/relationships/hyperlink" Target="http://www.complexneeds.org.uk/" TargetMode="External"/><Relationship Id="rId3" Type="http://schemas.openxmlformats.org/officeDocument/2006/relationships/hyperlink" Target="http://www.idponline.org.uk/" TargetMode="External"/><Relationship Id="rId4" Type="http://schemas.openxmlformats.org/officeDocument/2006/relationships/hyperlink" Target="http://www.nasentraining.org.uk/training-pack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301680"/>
            <a:ext cx="80661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AN OVERVIEW OF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umn Term 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ed by the SEN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hildren"/>
          <p:cNvPicPr/>
          <p:nvPr/>
        </p:nvPicPr>
        <p:blipFill>
          <a:blip r:embed="rId1"/>
          <a:stretch/>
        </p:blipFill>
        <p:spPr>
          <a:xfrm>
            <a:off x="2987640" y="1844640"/>
            <a:ext cx="38894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8487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 OF SEN PROVI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15640" y="155736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rovision is that which is someth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onal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fr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which  is provided for the majority of pup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es beyond the differentiated approaches and learning arrangements normally provided as part of high quality teac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clud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sonable adjustmen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ing made for disabled pupils, to ensure access to the curriculum, extra-curricular activities, facilities and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1378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IS EVERY TEACHERS’ RESPON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280" y="162864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N Code of Practice (0-25) 2014 st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responsible and accountable for the progress and development of all pupils in their class, wherever or whoever the pupils are working with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ncludes SEND pupils, who may be working with a specialist teacher, external professional or a teaching assistant, on an additional interv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expected to have an understanding of the strategies to identify &amp; support vulnerable pupils, and knowledge of the special educational needs most frequently encounter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6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ROVISION: SEN SUPP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 for those who don’t have an EHC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d approach – 4 types of action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ange of information gathered to establish SEN pupil’s needs (learning &amp; well-be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parents informed about pupils need for SEN Support; Class teacher, SENCO, parent &amp; pupil agree upon additional provision and expected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lass teacher responsible for SEN pupils assessment for learning, progress, curriculum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class teacher reviews impact of SEN support termly, with parent/pupil &amp; revises SEN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PROVISION: EDUCATION, HEALTH AND CARE (EHC) PLA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557360"/>
            <a:ext cx="82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C Plan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ose with more complex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ed formally annually – using person- centred planning and the structured convers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s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about how services will work together to support the outcomes &amp; meet the pupil’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&amp; parent focused, putting them at the centre of decision making about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information about how the parents personal budget for SEN i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628640"/>
            <a:ext cx="82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where SEN pupils are in their learning &amp; developmen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to the views and insights of parents and the SEN pupil to inform planning for provisio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high expectations and ambitions for SEN pupil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stretching targe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 SEN pupil progress towards meeting target set every ter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regular assessments of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280" y="1557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additional/different provision under review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intervention approaches used are evidence-based and are having a positive impact on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nd review SEN support, in partnership with parents/carers’, the SEN pupil &amp; SENC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more specialist assessments where a SEN pupil appears to be making inadequate progress, and falling considerably behind their pe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THE ROLE OF THE SEN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lea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f SEN policy &amp;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ing professional advice and guidance to staff, on the graduated approach to SEN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bui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ntributing to the professional development of teachers and TAs in meeting the four areas of 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missioning support from external a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valuating the impact of SEN Support and EHC Plan provision, across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o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 SEN pupils and their parents/carers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GNPOSTING TO FURTHER SEN RESOURC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62864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ced training materials for autism; dyslexia; speech, language and communication; emotional, social and behavioural difficulties; &amp; moderate learning difficulties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dvanced-training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materials for complex n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complexneeds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sion Development Programme (I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idponline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en resources: A Whole School Approach to Improving Access, Participation and Achie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nasentraining.org.uk/training-p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ION &amp; NEXT STE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628280"/>
            <a:ext cx="73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be your first priority for action following this present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YNOPSIS OF SE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&amp; Disability legi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different in the new S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ing SEND terminology, areas of SEN and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provision under the new SEN framework f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; and Education, Health &amp; Car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ications of the SEN changes for Every Teacher and Teaching Assi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CO r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posting to useful SEN resourc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&amp; DISABILITY LEGIS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1600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ildren and Families Act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Educational Needs Code of Practice (0-25)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quality Act 201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425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WHAT IS DIFFERENT IN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3880" y="1628640"/>
            <a:ext cx="8178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covers 0-25 age r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pupils &amp; their parents to inform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support (replacing Action and Action Pl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replaced by an individual plan, outlining targets, expected outcomes, SEN provision made &amp; its imp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Plans replace SEN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services working closer together to provide additional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6043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SEN if they have a learning difficulty or disability which calls for special educational provision to be made for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age child has a learning difficulty or disability if they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ater difficulty in learning than their same age p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79930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DISABILIT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a disability if they have a physical or mental impairment, and the impairment ha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tial and long-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ffect on their ability to carry out normal day-to-day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ability prevents or hinders the child from making use of educational facilities of a kind generally provided for others of the same 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820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ICATION – 4 AREAS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 Code of Practice (0-25) 2014 identifies four areas of SEN (high-incidence S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&amp; inter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utistic spectrum, SLCN, SpLD, sensory, physical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nition &amp;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LD, SLD, SpLD, PM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, mental &amp; emotional heal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ADD, ADHD, Austistic spectrum, bipolar disorder, self harm, eating disorders, substance abuse, de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y and/or physic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I, VI, MSI,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01320"/>
            <a:ext cx="84596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UPILS – ADEQUATE PROGR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right SEN provision, SEN pupils are expected to m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equate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equate progres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a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makes similar progress to their peers, starting from the same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es or betters the SEN pupil’s previous rate of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s the attainment gap between the SEN pupil and their p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the attainment gap growing w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GH QUALITY TEACHING FOR AL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igh quality teach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all featu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s on SEN pupils prio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s are active learners &amp; exte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multi-sensory learning approaches (VA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/TA model good learning &amp; how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use is made of open questioning, thinking aloud, explanation, and thinking time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pils talk about their learning, &amp; work in pairs, groups, whole class, and independ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iculum materials match pupils’ reading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broken down into small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39:07Z</dcterms:created>
  <dc:creator>Rita Cheminais</dc:creator>
  <dc:description/>
  <dc:language>en-US</dc:language>
  <cp:lastModifiedBy>mdavey</cp:lastModifiedBy>
  <dcterms:modified xsi:type="dcterms:W3CDTF">2014-03-03T09:07:04Z</dcterms:modified>
  <cp:revision>42</cp:revision>
  <dc:subject/>
  <dc:title>LEARN TO LISTEN TO THE PUPIL VOICE</dc:title>
</cp:coreProperties>
</file>